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wmf" ContentType="image/x-wmf"/>
  <Override PartName="/ppt/media/image6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57C-E85E-4F2A-82A4-7499FAD3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15B-EC36-4102-A0BF-3AD0B8A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41C-F26A-4857-97C3-0561DB45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AEE-3CF8-4B5E-9D39-1556157C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45A5-05F9-41BB-BCFC-6AF08FEA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1967-85D7-447E-AF90-BC40C4B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19F8-6034-4803-A271-71055EBD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BEB2-5CA2-425F-8B21-544E144A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1E26-66EF-4407-9F45-2799EFFA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0B1E-85CD-424A-8D00-0F6C96BB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6360-05D5-4BF4-8607-5995802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0F5-BB81-48D5-A059-6BCA5EB6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703E-A0C5-4FB0-B5CF-9341CD5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D27E-9C80-41DA-A409-4D6021A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08D-CA42-4559-91C8-FF6A9944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ECD4-8C86-4875-B0BD-F98D0150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37B3-3BB7-4FB3-A392-12002F6A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11C5-45F0-46BE-9916-F9A6654E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8711-1F74-49B8-8025-9D9CF29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14B6-EA5E-4288-9B30-94320AFC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4161-AE1A-47C7-8957-B14156F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4CFC-891D-4364-94ED-CEDEAAE7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D77-AE97-40DE-8B70-32A155BA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50EA-82A2-4D04-96BA-F90A2509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CA50-EC6B-46B0-BC55-3CAF4EB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9ACD-C720-4F93-AD89-7A3B604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9FF9-5039-4E94-8D83-C6197E0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427B-7E96-4CDC-8D23-769B0A6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A568-CE0C-4840-BB46-FA5B1C62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46AF-57C6-46A3-9DB7-C3160640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1200-0467-487E-B8F0-4DDB9D98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99B8-84AE-48F4-89F0-854DFCE9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EFFF-5B01-44DC-B79E-72B599E1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41B-DA73-4909-AA32-14E85DC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32C8-7E31-4A2A-86BA-ED0EDE10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11D1-8E53-4F71-940A-E471F1D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91B2-4209-4632-9281-5763196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7B95-A649-4E48-B554-D05B3E3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4A467-54A1-4399-AD6B-FDA4998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8DCB-10A4-45C2-BF54-98D0984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FD71-9619-4D7B-A2AD-4D2F914C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21DF-CF9C-49BF-9EAC-DB67AE45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6010-76AF-4A44-8242-09AC1E14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DD4-B627-4F5E-8E4D-4C8091B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806-1562-48D4-9AFF-AE5642C2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5A6-3C42-4FD1-9DA8-4DCA0E7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03C-B12D-414E-8DA3-F9606EC6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7AD-5ADE-440E-B41D-5C25153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2E2-BC06-49AA-9F90-036ADAA928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83D6-5CA9-4E7F-BD11-06E26F9F42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E0CF-526B-467B-A482-3CF5B260A2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99D4-8504-4551-B20E-868B63F9FA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-459000"/>
            <a:ext cx="821844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униципальное образовательное учреждение – средняя общеобразовательная школа №3 города Куйбышева Новосибирской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11280" y="1419480"/>
            <a:ext cx="7846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Экологическое состояние города Куйбышев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203640" y="5311800"/>
            <a:ext cx="59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ирпичников Владим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ник 9 «Б» кла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У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ОШ №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7" descr="Город 74"/>
          <p:cNvPicPr/>
          <p:nvPr/>
        </p:nvPicPr>
        <p:blipFill>
          <a:blip r:embed="rId1"/>
          <a:stretch/>
        </p:blipFill>
        <p:spPr>
          <a:xfrm>
            <a:off x="2143080" y="3071880"/>
            <a:ext cx="4392720" cy="24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иаграмма выбросов загрязняющих веществ в атмосферу города Куйбышев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0" y="1515960"/>
          <a:ext cx="9144000" cy="53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5960"/>
                    <a:ext cx="914400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анные полученные в ходе проведения исследован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негодовой пробег легкового автомобиля достигает 15-25 тыс.км, а грузового 5-15 тыс. к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это время грузовик потребляет 1500-1700 литров бензина, легковой – 1500-2500 лит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ьшее количество(более 200) загрязняющих веществ дают карбюраторные двигатели: оксид углерода, оксид азота, несгоревшие углер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жигании 1 г бензина выделяется 20-40 мг свинца, следовательно, один легковой автомобиль выбрасывает в городскую среду 0,3 – 1,0 кг свин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ороде  Куйбышеве зарегистрировано 21.250 тыс. единиц автотранс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ороде 5 АЗС для общего пользования и 9 АЗС на предприятиях. В среднем за год через все АЗС города реализуется 11 000 тонн ГСМ, в том числе бензина – 8.600, дизтоплива – 2.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лизация таких объемов топлива обуславливает выбросы отработанных газов в атмосферный воздух в количестве 4232,4 тон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аботанные газы составляют 65% общего объема загрязн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тальные выбросы: продукты терморазложения – 20%; испарения бензина – 9%; продукты износа резины и металла – 6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395280" y="752400"/>
          <a:ext cx="8229600" cy="6102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яющие 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ксимальная приземная концентрация в долях ПД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дор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9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ж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тый ангидр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3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8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опир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1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льдег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5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водо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8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сернистого ангидрида и двуокиси аз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8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крёсток Партизанской и Труд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Rectangle 292"/>
          <p:cNvSpPr/>
          <p:nvPr/>
        </p:nvSpPr>
        <p:spPr>
          <a:xfrm>
            <a:off x="0" y="-31320"/>
            <a:ext cx="95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иземная концентрация загрязняющих веществ в атмосферном воздухе нашего гор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920"/>
                            </p:stCondLst>
                            <p:childTnLst>
                              <p:par>
                                <p:cTn id="4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иболее загрязнённые улицы нашего город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Войк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Гуля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Закраевско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Краском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Куйбыш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А. Невско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Каин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Партизан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. Володарско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Город 74"/>
          <p:cNvPicPr/>
          <p:nvPr/>
        </p:nvPicPr>
        <p:blipFill>
          <a:blip r:embed="rId1"/>
          <a:stretch/>
        </p:blipFill>
        <p:spPr>
          <a:xfrm>
            <a:off x="4067280" y="1844640"/>
            <a:ext cx="473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чество куйбышевской вод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4" name="Picture 5" descr="Город 67"/>
          <p:cNvPicPr/>
          <p:nvPr/>
        </p:nvPicPr>
        <p:blipFill>
          <a:blip r:embed="rId1"/>
          <a:stretch/>
        </p:blipFill>
        <p:spPr>
          <a:xfrm>
            <a:off x="611280" y="1380960"/>
            <a:ext cx="7632720" cy="514368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d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анные, полученные в результате анализа образцов снег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занятиях кружка «ЭХО»  (эколого-химический отряд) мы брали контрольные пробы снега из района кольцевой автотрассы, дороги, проходящей в 10 м от школы и в дендрарии шко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имический анализ показал, что кислотность  первого образца – 9.0, второго – 7.0, третьего – 4.0, а так же   наличие во всех трех образцах свинца, сернистых  и азотных соединений. Уровень загрязнения снежного покрова   в районах автотрасс очень высок.Весной вместе с талыми водами все эти ядовитые вещества попадут в реку Ом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4091040" y="1557360"/>
            <a:ext cx="48704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да, которую мы пьем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школе для питья используется вода из водопровода. По данным СЭС вода, которую мы пьем, отвечает санитарным норм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елезо – 0.5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ветность – 1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исляемость – 40,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Щелочность – 2,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есткость – 4,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лориды – 60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льфаты – 6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хой остаток соли – 301(норма – до 1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рганец – зимой до 0,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4068720" y="1557360"/>
            <a:ext cx="50752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Город 86"/>
          <p:cNvPicPr/>
          <p:nvPr/>
        </p:nvPicPr>
        <p:blipFill>
          <a:blip r:embed="rId1"/>
          <a:stretch/>
        </p:blipFill>
        <p:spPr>
          <a:xfrm>
            <a:off x="324000" y="189000"/>
            <a:ext cx="8567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лияние выхлопных газов на организм человек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реднем каждый автомобиль выбрасывает 3.5-4 кг угарного газа , значительное количество оксидов азота, серу, сажу. Самые опасные проявления свинцовой интоксикации связаны с действием свинца на головной мозг и периферическую нервную систему. Свинец, как и другие тяжелые металлы, блокирует тканевые сульфгидрильные груп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дыхание окиси углерода в концентрации 0.05% в течение часа может вызвать легкую головную боль, при этом в крови содержится 20% карбоксигемоглобина. Большая продолжительность воздействия или более интенсивный объем дыхания приведут к образованию 40-50% карбоксигемоглобина. При этом появляются головная боль, тошнота, раздражительность, одышка, боль в груди, обморочные состояния, окрашивание слизистых оболочек и кожи в алый цв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-400356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00"/>
                            </p:stCondLst>
                            <p:childTnLst>
                              <p:par>
                                <p:cTn id="59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100"/>
                            </p:stCondLst>
                            <p:childTnLst>
                              <p:par>
                                <p:cTn id="59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Продолжительность жизни горожан в зависимости от зон проживани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341000"/>
            <a:ext cx="6696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 целом по городу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67.7 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жчин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1.8 г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енщи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3.7 г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Чистая зона - средняя продолжительность жизн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70 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жчин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65.5 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енщин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74.6 г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ранспортная зон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средняя продолжительность жизн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57.1 г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7" descr="j0234131"/>
          <p:cNvPicPr/>
          <p:nvPr/>
        </p:nvPicPr>
        <p:blipFill>
          <a:blip r:embed="rId1"/>
          <a:stretch/>
        </p:blipFill>
        <p:spPr>
          <a:xfrm>
            <a:off x="6659640" y="2276640"/>
            <a:ext cx="195264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ainsk035"/>
          <p:cNvPicPr/>
          <p:nvPr/>
        </p:nvPicPr>
        <p:blipFill>
          <a:blip r:embed="rId1"/>
          <a:stretch/>
        </p:blipFill>
        <p:spPr>
          <a:xfrm>
            <a:off x="285840" y="214200"/>
            <a:ext cx="8424720" cy="635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kainsk035"/>
          <p:cNvPicPr/>
          <p:nvPr/>
        </p:nvPicPr>
        <p:blipFill>
          <a:blip r:embed="rId2"/>
          <a:stretch/>
        </p:blipFill>
        <p:spPr>
          <a:xfrm>
            <a:off x="285840" y="214200"/>
            <a:ext cx="84247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kainsk028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kainsk036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189000"/>
          <a:ext cx="9144000" cy="6642000"/>
        </p:xfrm>
        <a:graphic>
          <a:graphicData uri="http://schemas.openxmlformats.org/drawingml/2006/table">
            <a:tbl>
              <a:tblPr/>
              <a:tblGrid>
                <a:gridCol w="1908000"/>
                <a:gridCol w="935280"/>
                <a:gridCol w="1008000"/>
                <a:gridCol w="1584360"/>
                <a:gridCol w="1873080"/>
                <a:gridCol w="935280"/>
                <a:gridCol w="90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сот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кроны, 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имостойкость,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устойчивость,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нош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 св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 влаг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РЕВ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рёза повисл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– 1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– 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рёза пушист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– 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ль сибирская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– 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– 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ль сибирская голуба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– 1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– 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ён татар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– 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ён прир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– 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– 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хта сибир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– 1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– 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ябина сибир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– 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– 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рёмуха обыкновен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– 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– 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па сердцевид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– 1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– 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ственниц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– 1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– 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0"/>
          <a:ext cx="9144000" cy="4867200"/>
        </p:xfrm>
        <a:graphic>
          <a:graphicData uri="http://schemas.openxmlformats.org/drawingml/2006/table">
            <a:tbl>
              <a:tblPr/>
              <a:tblGrid>
                <a:gridCol w="1692360"/>
                <a:gridCol w="1008000"/>
                <a:gridCol w="1150920"/>
                <a:gridCol w="1584360"/>
                <a:gridCol w="1873080"/>
                <a:gridCol w="935280"/>
                <a:gridCol w="900000"/>
              </a:tblGrid>
              <a:tr h="311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сот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кроны, 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имостойкость,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устойчивость,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нош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 св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 влаг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СТАР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узина сибир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– 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– 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лина обыкновен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– 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рень венгер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– 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рень обыкновен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– 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 – II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рильский ч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92" name="Picture 758" descr="kainsk015"/>
          <p:cNvPicPr/>
          <p:nvPr/>
        </p:nvPicPr>
        <p:blipFill>
          <a:blip r:embed="rId1"/>
          <a:stretch/>
        </p:blipFill>
        <p:spPr>
          <a:xfrm>
            <a:off x="2700360" y="4265640"/>
            <a:ext cx="446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Город 49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Предло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вести автомобили на экологически чистые марки топли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предлагаю озеленять придорожные территории города, территории школ и детских учреждений силами местного населения и зеленхоза ЖКХ города Куйбыше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ать целевые программы по воспитанию экологической культуры насе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е транспорта по улицам сделать в режиме «зеленой волны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5" descr="j0254431"/>
          <p:cNvPicPr/>
          <p:nvPr/>
        </p:nvPicPr>
        <p:blipFill>
          <a:blip r:embed="rId1"/>
          <a:stretch/>
        </p:blipFill>
        <p:spPr>
          <a:xfrm>
            <a:off x="7812000" y="4861080"/>
            <a:ext cx="1332000" cy="199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500"/>
                            </p:stCondLst>
                            <p:childTnLst>
                              <p:par>
                                <p:cTn id="697" nodeType="after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8500"/>
                            </p:stCondLst>
                            <p:childTnLst>
                              <p:par>
                                <p:cTn id="709" nodeType="after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Город 54"/>
          <p:cNvPicPr/>
          <p:nvPr/>
        </p:nvPicPr>
        <p:blipFill>
          <a:blip r:embed="rId1"/>
          <a:stretch/>
        </p:blipFill>
        <p:spPr>
          <a:xfrm>
            <a:off x="250920" y="22068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91440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В.Путилов, А. А. Копреев, Н. В. Петрухин. «Охрана окружающей среды». М. «Химия», 1991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ймерс А.А. «Охрана природы и окружающей человека среды» ,М., «Просвещение» 1992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ыруля Н. В., Рычкова Н. А., Чиндяева Л. Н. «Правила внутреннего и наружного озеленения детских учреждений». – Новосибирск: Новосибирское книжное издательство, 2003, 32 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оровский образовательный журнал» (1997-1999г.г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лады «Состояние окружающей природной среды г. Куйбышева» 199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остояние окружающей среды Новосибирской области в 2002 году», Новосибирск ,2003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логизированный курс химии. Журнал «Химия в школе»,№ 1,2.М  «Школа-Пресс». 1996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логия России. Хрестоматия. / Сост. В. Н. Кузнецов. – М.: АО «МДС», 1996, - 320 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кин Б. М., Наумова Л. Г. Экология России. Учебник из Федерального комплекта для 9 – 11-х классов общеобразовательной школы. 1996. – 272 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"/>
                            </p:stCondLst>
                            <p:childTnLst>
                              <p:par>
                                <p:cTn id="7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Город 18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определить основные загрязнители атмосферы города Куйбышева и выработать рекомендации по его озелене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ь загрязнение атмосферы автотранспорт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явить наиболее грязные районы город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ь влияние загрязняющих веществ на здоровь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ь видовой состав деревьев и кустарников, наиболее подходящих для посадки в гор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4" descr="труба котельной"/>
          <p:cNvPicPr/>
          <p:nvPr/>
        </p:nvPicPr>
        <p:blipFill>
          <a:blip r:embed="rId1"/>
          <a:stretch/>
        </p:blipFill>
        <p:spPr>
          <a:xfrm>
            <a:off x="714240" y="1357200"/>
            <a:ext cx="150048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Этапы работ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ил значимость проблемы загрязнения атмосферы города автомобильным транспортом и намети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ти её изуч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консультировался  с учителем химии и биологи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ил список необходимой литерату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тился к различным источникам литературы и использовал некоторые из них в своём исследов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овал в работе разработку карт загрязнения атмосферного воздуха города Куйбыше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бщил полученные материалы, сделал выводы и оформил в виде реферативной работы и мультимедийной презент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j0281904"/>
          <p:cNvPicPr/>
          <p:nvPr/>
        </p:nvPicPr>
        <p:blipFill>
          <a:blip r:embed="rId1"/>
          <a:stretch/>
        </p:blipFill>
        <p:spPr>
          <a:xfrm>
            <a:off x="7885080" y="5659560"/>
            <a:ext cx="10684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4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7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7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7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1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1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1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1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1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7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Город 17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785880" y="2530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оступление в атмосферу (тонн/год) некоторых компонентов,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тественного и промышленного происхожд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4360" y="1773360"/>
          <a:ext cx="7921440" cy="3703680"/>
        </p:xfrm>
        <a:graphic>
          <a:graphicData uri="http://schemas.openxmlformats.org/drawingml/2006/table">
            <a:tbl>
              <a:tblPr/>
              <a:tblGrid>
                <a:gridCol w="2665440"/>
                <a:gridCol w="2614320"/>
                <a:gridCol w="264168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ественн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ышленн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начи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вуокись угле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ь углерод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тый г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2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3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единения аз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*10</a:t>
                      </a:r>
                      <a:r>
                        <a:rPr b="1" lang="ru-RU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936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Picture 186" descr="j0285360"/>
          <p:cNvPicPr/>
          <p:nvPr/>
        </p:nvPicPr>
        <p:blipFill>
          <a:blip r:embed="rId1"/>
          <a:stretch/>
        </p:blipFill>
        <p:spPr>
          <a:xfrm>
            <a:off x="7415280" y="5516640"/>
            <a:ext cx="1728720" cy="134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6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181080" y="907560"/>
            <a:ext cx="4896000" cy="63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од Куйбышев один из промышленных центров Новосибирской области. Площадь города 88,4 кв. км, население около 56 тысяч человек. Город вытянут с запада на восток на 11 к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севера на юг на 8 км. Расположен по обоим берегам р. Оми - притока  Иртыш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Карта города"/>
          <p:cNvPicPr/>
          <p:nvPr/>
        </p:nvPicPr>
        <p:blipFill>
          <a:blip r:embed="rId1"/>
          <a:stretch/>
        </p:blipFill>
        <p:spPr>
          <a:xfrm>
            <a:off x="4572000" y="1197000"/>
            <a:ext cx="4000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84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32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грязнение воздуха автотранспортом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 провели подсчет машин, проезжающих  мимо школы за 1 ча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ло установлено, что в среднем за час проезжает по западной  трассе 426 автомобил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них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бусов –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зельных –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зовых бензиновых – 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гковых - 3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час этот транспорт выбрасывает в атмосферу вредных веществ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сида углерода-83 к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глеводорода – 10,295 к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сида азота – 8.750 к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жи – 560 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рнистых соединений – 860 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нца – 21.300 к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е количество выбросов на этой трассе за год составит 454 тонн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73520" y="1600200"/>
          <a:ext cx="39909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600200"/>
                    <a:ext cx="39909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0"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4:01:40Z</dcterms:created>
  <dc:creator>Elchin'S</dc:creator>
  <dc:description/>
  <dc:language>en-US</dc:language>
  <cp:lastModifiedBy>Мама</cp:lastModifiedBy>
  <dcterms:modified xsi:type="dcterms:W3CDTF">2009-01-24T16:51:51Z</dcterms:modified>
  <cp:revision>41</cp:revision>
  <dc:subject/>
  <dc:title>Слайд 1</dc:title>
</cp:coreProperties>
</file>